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2CF-22EA-45A3-9421-7B239DBB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8D1-6911-4241-A00C-9B8B5B82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C09-1569-4C13-9B0D-F6FEFE79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9A0-5D9A-44A6-B582-C96D7F0E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E0D-2A05-4FEB-BC0B-E581A470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746-3D5F-44D7-8E5E-FA8FF178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6EF-418C-4859-B0E3-1695344C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5F8-7FC1-4D2B-A0D2-BF3A6313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F8F-166A-4A1D-B78F-31162551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996F-634D-4EE6-A39E-01AC0FD4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D87-B96E-4C91-8040-9A891B04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324-8D17-40D2-AF09-2EFF499F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C9FA-6306-4077-B198-672F492AA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Untitled" descr=""/>
          <p:cNvPicPr/>
          <p:nvPr/>
        </p:nvPicPr>
        <p:blipFill>
          <a:blip r:embed="rId1"/>
          <a:stretch/>
        </p:blipFill>
        <p:spPr>
          <a:xfrm>
            <a:off x="1371600" y="0"/>
            <a:ext cx="152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Untitled" descr=""/>
          <p:cNvPicPr/>
          <p:nvPr/>
        </p:nvPicPr>
        <p:blipFill>
          <a:blip r:embed="rId2"/>
          <a:stretch/>
        </p:blipFill>
        <p:spPr>
          <a:xfrm>
            <a:off x="1600200" y="0"/>
            <a:ext cx="585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85800"/>
            <a:ext cx="32004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ignore, tu mi guardi e mi leggi negli occhi ciò che custodisco nel cuor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3429000"/>
            <a:ext cx="4419360" cy="278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ff33"/>
                </a:solidFill>
                <a:latin typeface="Arial"/>
              </a:rPr>
              <a:t>ogni mio gesto ti è familiare, lo segui con amorosa prem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763120" y="655308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1080" y="6338880"/>
            <a:ext cx="7162920" cy="52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gnore, tu mi scruti e mi conos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iracle" descr=""/>
          <p:cNvPicPr/>
          <p:nvPr/>
        </p:nvPicPr>
        <p:blipFill>
          <a:blip r:embed="rId1"/>
          <a:srcRect l="-79" t="-45" r="0" b="32671"/>
          <a:stretch/>
        </p:blipFill>
        <p:spPr>
          <a:xfrm>
            <a:off x="-685800" y="0"/>
            <a:ext cx="9829800" cy="6908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3886200"/>
            <a:ext cx="66294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99"/>
                </a:solidFill>
                <a:latin typeface="Arial"/>
              </a:rPr>
              <a:t>Il mio stesso corpo è un dono meraviglioso creato dalla tua mano, cesellato con arte e gusto fin dal seno di mia mad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6338880"/>
            <a:ext cx="7162920" cy="52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gnore, tu mi scruti e mi conos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5105520"/>
            <a:ext cx="8686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ff"/>
                </a:solidFill>
                <a:latin typeface="Arial"/>
              </a:rPr>
              <a:t>Ti ringrazio, Signore, per avermi fatta in modo così bello! Tutto quello che fai è meraviglioso. Ogni cosa è raggio della tua bellez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6338880"/>
            <a:ext cx="7162920" cy="52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gnore, tu mi scruti e mi conos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685800"/>
            <a:ext cx="3048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Tu conoscevi i miei pregi e i miei difetti prima ancora che io lo scopriss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3505320"/>
            <a:ext cx="396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conoscevi i miei entusiasmi e le mie paure prima ancora che li sperimentas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6338880"/>
            <a:ext cx="7162920" cy="52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gnore, tu mi scruti e mi conos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304920"/>
            <a:ext cx="548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Tutti gli avvenimenti della mia vita ti erano familiari prima ancora che li vivessi. E mi hai riempito l’esistenza di doni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6338880"/>
            <a:ext cx="7162920" cy="52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gnore, tu mi scruti e mi conos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828800" y="1981080"/>
            <a:ext cx="5486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Avrei voglia di mettermi a raccontarli ma sarebbe una storia troppo lunga: innumerevoli piccoli segni che sempre mi portano all’unico grande dono che sei tu, Signo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6338880"/>
            <a:ext cx="7162920" cy="52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gnore, tu mi scruti e mi conos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52480" y="380880"/>
          <a:ext cx="693432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80880"/>
                    <a:ext cx="69343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80880" y="457200"/>
            <a:ext cx="335304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ccompagni il mio lavoro e il mio tempo libero, il filo dei miei pensieri e i miei desideri più nascos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6338880"/>
            <a:ext cx="7162920" cy="52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gnore, tu mi scruti e mi conos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457200"/>
            <a:ext cx="2438280" cy="52131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onosci le parole che dico e i progetti che mi frullano in testa. La tua è una presenza costante, uno sguardo che avvolge la v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6338880"/>
            <a:ext cx="670572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gnore, tu mi scruti e mi conosc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762120"/>
            <a:ext cx="55627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Quando ci penso, resto come incantata, sorpresa e insieme affascinata. È una grande cosa, meravigliosa, e spesso non me ne rendo cont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6338880"/>
            <a:ext cx="7162920" cy="52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gnore, tu mi scruti e mi conos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GG502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380880"/>
            <a:ext cx="29718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99"/>
                </a:solidFill>
                <a:latin typeface="Arial"/>
              </a:rPr>
              <a:t>Nel turbinare affannoso delle scelte sono portata a sentirmi autosufficiente, protagonista della mia vita e dominatrice delle c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6338880"/>
            <a:ext cx="7162920" cy="52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gnore, tu mi scruti e mi conos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ANI" descr=""/>
          <p:cNvPicPr/>
          <p:nvPr/>
        </p:nvPicPr>
        <p:blipFill>
          <a:blip r:embed="rId1"/>
          <a:stretch/>
        </p:blipFill>
        <p:spPr>
          <a:xfrm>
            <a:off x="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MANI" descr=""/>
          <p:cNvPicPr/>
          <p:nvPr/>
        </p:nvPicPr>
        <p:blipFill>
          <a:blip r:embed="rId2"/>
          <a:stretch/>
        </p:blipFill>
        <p:spPr>
          <a:xfrm>
            <a:off x="0" y="2286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MANI" descr="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MANI" descr=""/>
          <p:cNvPicPr/>
          <p:nvPr/>
        </p:nvPicPr>
        <p:blipFill>
          <a:blip r:embed="rId4"/>
          <a:stretch/>
        </p:blipFill>
        <p:spPr>
          <a:xfrm>
            <a:off x="6019920" y="228600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MANI" descr=""/>
          <p:cNvPicPr/>
          <p:nvPr/>
        </p:nvPicPr>
        <p:blipFill>
          <a:blip r:embed="rId5"/>
          <a:stretch/>
        </p:blipFill>
        <p:spPr>
          <a:xfrm>
            <a:off x="6019920" y="457200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MANI" descr=""/>
          <p:cNvPicPr/>
          <p:nvPr/>
        </p:nvPicPr>
        <p:blipFill>
          <a:blip r:embed="rId6"/>
          <a:stretch/>
        </p:blipFill>
        <p:spPr>
          <a:xfrm>
            <a:off x="3048120" y="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MANI" descr=""/>
          <p:cNvPicPr/>
          <p:nvPr/>
        </p:nvPicPr>
        <p:blipFill>
          <a:blip r:embed="rId7"/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MANI" descr=""/>
          <p:cNvPicPr/>
          <p:nvPr/>
        </p:nvPicPr>
        <p:blipFill>
          <a:blip r:embed="rId8"/>
          <a:stretch/>
        </p:blipFill>
        <p:spPr>
          <a:xfrm>
            <a:off x="3048120" y="228600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MANI" descr=""/>
          <p:cNvPicPr/>
          <p:nvPr/>
        </p:nvPicPr>
        <p:blipFill>
          <a:blip r:embed="rId9"/>
          <a:stretch/>
        </p:blipFill>
        <p:spPr>
          <a:xfrm>
            <a:off x="3048120" y="4572000"/>
            <a:ext cx="3200400" cy="228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90720" y="2362320"/>
            <a:ext cx="66294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n realtà cosa sarei senza di te?                                                                          Quali speranze che non siano miraggi?                                  Quali esperienze potrei fare senza incontrare il tuo vol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6338880"/>
            <a:ext cx="7162920" cy="52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gnore, tu mi scruti e mi conos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24280" y="380880"/>
            <a:ext cx="4114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e voglio impadronirmi del cielo, misurando gli anni-luce dei suoi spazi infiniti e mando sonde a fotografare i pianeti, è la tua grandezza che scopro e contemp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6338880"/>
            <a:ext cx="7162920" cy="52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gnore, tu mi scruti e mi conos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66880" y="914400"/>
            <a:ext cx="579132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Se mi appassiono a studiare le meravigliose leggi della natura e penetro nei segreti delle cellule e degli atomi è la tua sapienza che mi svel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6338880"/>
            <a:ext cx="7162920" cy="52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gnore, tu mi scruti e mi conos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GG5019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914400"/>
            <a:ext cx="3505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Anche quando vivo momenti di sofferenza e mi si oscura il senso della vita, è la tua misericordia che sperimento, la tua parola illumina la mia angosci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6338880"/>
            <a:ext cx="7162920" cy="52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gnore, tu mi scruti e mi conos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10:17:46Z</dcterms:created>
  <dc:creator>Sr. Paola</dc:creator>
  <dc:description/>
  <dc:language>en-US</dc:language>
  <cp:lastModifiedBy>biblioteca</cp:lastModifiedBy>
  <dcterms:modified xsi:type="dcterms:W3CDTF">2006-06-20T10:34:11Z</dcterms:modified>
  <cp:revision>15</cp:revision>
  <dc:subject/>
  <dc:title>PowerPoint Presentation</dc:title>
</cp:coreProperties>
</file>